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1766-A94B-4620-9C60-3FFA60E6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8F1F-897B-49A2-AE06-2D10D6D5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BF06-0643-4962-B27D-92E25A9A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EC74-7E02-46C5-8E93-A92EC1F6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2BD4-67BB-4E50-8821-143CB788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205E-2322-4FA7-A09C-8809E241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5389-E17C-49D8-94F5-157D10A5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C175-30F2-402A-928C-063B2C25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595D-74A0-46C7-AB75-4027E8A2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0104-6466-4AEA-B691-2901AF03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BF0D-3044-44DD-9110-8DA2D73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274C-D14E-495A-9F2F-361197A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5BAC-2829-4A8B-82CD-7DB91EB2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900E-041F-4F56-A747-E195CF1B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A226-03F4-44D5-8809-3743BA10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F8E4-0834-4969-A3F2-528516F2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11F8-52F0-4254-90B1-AB40F9F6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C266-132B-4FDD-B3A8-091029C4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681A-AB06-41E2-BDF7-05F6A881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76E1-AF35-4140-BB13-943189B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0ED4-F8DB-4F09-A1DA-3500C60D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9C77-FD47-49F8-9C8C-448777F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6FFA-995C-4913-8CB0-9BFAED6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B74B-B88D-4076-8E46-76635C6D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C73-6154-410F-85AC-54BB46868E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ACE6-26AF-4056-8D88-FA2E2277E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29360" y="401760"/>
            <a:ext cx="3390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Aliata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con azules tahalí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rvos alfanjes dora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i coronados de plu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bonetes african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no de lutos vest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traron de cuatro en cua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mal logrado Aliat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fligidos sold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gran empresa del Fénix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la bandera vola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penas lo trató el vien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627280" y="60480"/>
            <a:ext cx="3745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emiendo el fuego tal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a por señas de dolor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arre el suelo y deja el camp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rrastrando entre la se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l alférez va arrastran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alió el gallardo Alia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 cien moriscos gallar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defensa de Mot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socorro de su her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aballo salió el mo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otro día desdich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negras andas le vuel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donde salió a cabal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340000" y="333360"/>
            <a:ext cx="3527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balleros del maes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el camino encontrar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cubiertos de unas cañ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riosos le salte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iriéndole malamen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rió Aliatar mal logra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os suyos, aunque rot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vencidos se torn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sólo le lloró Za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ero acompáñanla cu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Albaicín  a la Alham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eben de Genil y Darr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528280" y="546120"/>
            <a:ext cx="331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s damas  como a galá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valientes como a bra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lcaides como igu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plebeyos como a ampar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3:33:51Z</dcterms:created>
  <dc:creator> </dc:creator>
  <dc:description/>
  <dc:language>en-US</dc:language>
  <cp:lastModifiedBy> </cp:lastModifiedBy>
  <dcterms:modified xsi:type="dcterms:W3CDTF">2007-10-03T03:57:16Z</dcterms:modified>
  <cp:revision>7</cp:revision>
  <dc:subject/>
  <dc:title>Diapositiva 1</dc:title>
</cp:coreProperties>
</file>